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4E4-959E-4310-B918-A029DB15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F43-1AF8-4F2F-86B3-0F7A8EE9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D77-490F-49A4-8478-1D27ECB4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E66-3296-45FF-AEE4-F7A0DACB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5B9A-C7E7-43EA-82C8-22F6A8C2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8568-9203-4FC3-B199-6F03D563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1F43-E095-4FDE-8990-3558C0F1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AB01-22D2-47F3-B142-4643DC30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1274-CB53-467A-945E-62C816B7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5B27-3035-4A82-A007-F9E5F5C5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E374-5721-4B41-829F-8086B59A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84D-3296-4CA3-9819-FA6E858C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5177-C657-424E-BCA0-E235664E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A0F7-FABD-429D-B237-B90DADB9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AA62-9603-4614-9B68-37AFCBEA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55DE-21B1-4635-A812-27E299EE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5F96-2029-40D1-895F-CE9C6790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9D95F-4D5D-469A-A590-8629A232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C0885-4153-4D48-B27C-9C21BA35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E988-5A32-41BF-8569-9E17E8F8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F7E37-954C-4F34-8F03-40BA66CE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D30E6-145F-44EC-A8CB-FB3B8229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0E4-B3E6-4764-8584-37245CFB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EDC9-56AC-473D-B732-10708D7A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7933-AE3F-4C09-8C81-9AA790AE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238A-0461-4153-80F9-70482977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6327-7D31-4104-AD00-1B3AEC5A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B5AA-FF00-4997-9D06-6F6C104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EA16-3FCA-48A9-A57C-E9654666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5828-8D41-45DF-BBC9-026C6674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86AF6-EB15-49CF-9FB0-0858C8E2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B7606-EA4C-41F9-A5AC-624E2575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A57A6-47F3-4D1B-B8C6-0E681E18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1FF-EC97-4A1D-B74E-DF74AC3E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242C-A0FA-45C5-802D-DACCC94C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002D-7B7F-4834-AFAE-4AD6F277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5D5F5-50BC-477C-9713-AC7433A6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C16A6-6629-4D42-A92C-8158041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137F7-CBED-43FB-8DF1-A0799648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79F4-F11A-4A48-BAF0-E685CD0B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6190C-E6B9-4022-958B-E992CD79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3CE59-6205-497D-B41D-0C269EAE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ADDD7-0EB7-4FC5-A1A1-E379E27E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60D-B6B1-4B3F-959B-D84C4DA5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2CB-04AB-46BF-A413-D77AE291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E63-7451-461A-8E33-498C0073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72A-E9AF-4666-82A7-AD10DD73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E1B-7E10-4B92-96ED-13703F46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F900-7158-4977-A40E-3B2AF54D102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11EE-4A91-4C54-BD19-12B5F545C750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C88B-C378-4A07-9F41-2906B5E7A97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8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686C-C038-46BE-B149-3338283121F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Интегрисане академске студије </a:t>
            </a:r>
            <a:r>
              <a:rPr b="0" lang="sr-RS" sz="2800" spc="-1" strike="noStrike">
                <a:solidFill>
                  <a:srgbClr val="04617b"/>
                </a:solidFill>
                <a:latin typeface="Calibri"/>
              </a:rPr>
              <a:t>стоматологиј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Предмет: Енглески јези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Предавач: Душица Лази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Revis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ion of less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vision of gramm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s’ ques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ica Lazic</cp:lastModifiedBy>
  <dcterms:modified xsi:type="dcterms:W3CDTF">2014-02-09T20:30:58Z</dcterms:modified>
  <cp:revision>10</cp:revision>
  <dc:subject/>
  <dc:title>Slide 1</dc:title>
</cp:coreProperties>
</file>